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69C-114B-4FBA-AC35-37237AAD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A6F-1A5C-4704-B357-D1DD7722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418-A934-4BA1-820C-9EC26004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F40-B7C2-4634-AB1A-B2E6B745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7B5-9243-470D-9381-639024DE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A8F-8C0D-4122-A823-18AA7432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9E9-662C-45EF-831F-9C4875D2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9CD-9530-42C0-B1EA-DBE5957E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2AB-1BF1-4281-AB2B-90DC2104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308-AB0E-4568-9E41-B8E417D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E38-F781-497B-B5DF-E47598A3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17C-89C6-4FB6-9B64-6818D9AC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6495-A847-4601-ABCE-37A54DD5E0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orary%20Internet%20Files/Content.IE5/LLMFKPUZ/lzhu.swf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438120"/>
            <a:ext cx="747684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相似三角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81560" y="20574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1680" y="2666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8160" y="13716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98960" y="2994120"/>
            <a:ext cx="168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89160" y="31240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5480" y="3352680"/>
            <a:ext cx="48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3789360"/>
            <a:ext cx="1676160" cy="1600200"/>
          </a:xfrm>
          <a:prstGeom prst="triangle">
            <a:avLst>
              <a:gd name="adj" fmla="val 87454"/>
            </a:avLst>
          </a:prstGeom>
          <a:solidFill>
            <a:srgbClr val="80808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1835280" y="3933720"/>
            <a:ext cx="1447560" cy="1295640"/>
          </a:xfrm>
          <a:prstGeom prst="triangle">
            <a:avLst>
              <a:gd name="adj" fmla="val 87454"/>
            </a:avLst>
          </a:prstGeom>
          <a:solidFill>
            <a:srgbClr val="0000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038480" y="3517200"/>
            <a:ext cx="6098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 baseline="-25000">
                <a:solidFill>
                  <a:srgbClr val="0000ff"/>
                </a:solidFill>
                <a:latin typeface="Comic Sans MS"/>
                <a:ea typeface="华文行楷"/>
              </a:rPr>
              <a:t>相似三角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5264640" y="549360"/>
            <a:ext cx="2806200" cy="3033720"/>
            <a:chOff x="5264640" y="549360"/>
            <a:chExt cx="2806200" cy="3033720"/>
          </a:xfrm>
        </p:grpSpPr>
        <p:sp>
          <p:nvSpPr>
            <p:cNvPr id="176" name=""/>
            <p:cNvSpPr/>
            <p:nvPr/>
          </p:nvSpPr>
          <p:spPr>
            <a:xfrm>
              <a:off x="5584680" y="1050840"/>
              <a:ext cx="2160720" cy="2162160"/>
            </a:xfrm>
            <a:prstGeom prst="triangle">
              <a:avLst>
                <a:gd name="adj" fmla="val 8514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04320" y="54936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61520" y="2133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1466800">
              <a:off x="7662600" y="21337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64640" y="304956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29200">
              <a:off x="7647480" y="304956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95280" y="260280"/>
            <a:ext cx="5654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例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△AEF∽ △ABC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98100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E=3, AB=5, EF=2.4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0303400">
            <a:off x="6588000" y="14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21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285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75880" y="937080"/>
            <a:ext cx="1959480" cy="2220120"/>
            <a:chOff x="5375880" y="937080"/>
            <a:chExt cx="1959480" cy="2220120"/>
          </a:xfrm>
        </p:grpSpPr>
        <p:sp>
          <p:nvSpPr>
            <p:cNvPr id="188" name=""/>
            <p:cNvSpPr/>
            <p:nvPr/>
          </p:nvSpPr>
          <p:spPr>
            <a:xfrm>
              <a:off x="5940360" y="17002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469000">
              <a:off x="6300720" y="620640"/>
              <a:ext cx="109440" cy="2852640"/>
            </a:xfrm>
            <a:custGeom>
              <a:avLst/>
              <a:gdLst>
                <a:gd name="textAreaLeft" fmla="*/ 69840 w 109440"/>
                <a:gd name="textAreaRight" fmla="*/ 109800 w 109440"/>
                <a:gd name="textAreaTop" fmla="*/ 74160 h 2852640"/>
                <a:gd name="textAreaBottom" fmla="*/ 2778480 h 28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24000" y="2205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求证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80000" y="2490480"/>
            <a:ext cx="2160720" cy="722520"/>
            <a:chOff x="5580000" y="2490480"/>
            <a:chExt cx="2160720" cy="722520"/>
          </a:xfrm>
        </p:grpSpPr>
        <p:sp>
          <p:nvSpPr>
            <p:cNvPr id="192" name=""/>
            <p:cNvSpPr/>
            <p:nvPr/>
          </p:nvSpPr>
          <p:spPr>
            <a:xfrm flipH="1" flipV="1">
              <a:off x="6147360" y="2490480"/>
              <a:ext cx="1484640" cy="11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80000" y="3213000"/>
              <a:ext cx="21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580000" y="2501280"/>
            <a:ext cx="2160720" cy="722520"/>
            <a:chOff x="5580000" y="2501280"/>
            <a:chExt cx="2160720" cy="722520"/>
          </a:xfrm>
        </p:grpSpPr>
        <p:sp>
          <p:nvSpPr>
            <p:cNvPr id="195" name=""/>
            <p:cNvSpPr/>
            <p:nvPr/>
          </p:nvSpPr>
          <p:spPr>
            <a:xfrm flipH="1" flipV="1">
              <a:off x="6147360" y="2501280"/>
              <a:ext cx="1484640" cy="11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80000" y="3223800"/>
              <a:ext cx="216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324000" y="18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个等腰三角形相似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50960" y="549360"/>
            <a:ext cx="2197440" cy="2880000"/>
            <a:chOff x="750960" y="549360"/>
            <a:chExt cx="2197440" cy="2880000"/>
          </a:xfrm>
        </p:grpSpPr>
        <p:sp>
          <p:nvSpPr>
            <p:cNvPr id="199" name=""/>
            <p:cNvSpPr/>
            <p:nvPr/>
          </p:nvSpPr>
          <p:spPr>
            <a:xfrm>
              <a:off x="1142640" y="1144800"/>
              <a:ext cx="1427760" cy="196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3800" y="54936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0960" y="28508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74000" y="29696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7000" y="1494000"/>
              <a:ext cx="91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30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14400" y="765000"/>
            <a:ext cx="3817800" cy="1678680"/>
            <a:chOff x="2714400" y="765000"/>
            <a:chExt cx="3817800" cy="1678680"/>
          </a:xfrm>
        </p:grpSpPr>
        <p:sp>
          <p:nvSpPr>
            <p:cNvPr id="205" name=""/>
            <p:cNvSpPr/>
            <p:nvPr/>
          </p:nvSpPr>
          <p:spPr>
            <a:xfrm>
              <a:off x="3122640" y="1274400"/>
              <a:ext cx="2819520" cy="9144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87680" y="7650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14400" y="1983960"/>
              <a:ext cx="4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72480" y="198396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09720" y="180792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30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964440" y="4581360"/>
            <a:ext cx="1627560" cy="1619280"/>
            <a:chOff x="964440" y="4581360"/>
            <a:chExt cx="1627560" cy="1619280"/>
          </a:xfrm>
        </p:grpSpPr>
        <p:sp>
          <p:nvSpPr>
            <p:cNvPr id="211" name=""/>
            <p:cNvSpPr/>
            <p:nvPr/>
          </p:nvSpPr>
          <p:spPr>
            <a:xfrm>
              <a:off x="992160" y="4581360"/>
              <a:ext cx="1599840" cy="12193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8320" y="4802040"/>
              <a:ext cx="57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60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64440" y="482436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43400" y="568008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86280" y="475308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780000" y="4149720"/>
            <a:ext cx="2449440" cy="2330640"/>
            <a:chOff x="3780000" y="4149720"/>
            <a:chExt cx="2449440" cy="2330640"/>
          </a:xfrm>
        </p:grpSpPr>
        <p:sp>
          <p:nvSpPr>
            <p:cNvPr id="217" name=""/>
            <p:cNvSpPr/>
            <p:nvPr/>
          </p:nvSpPr>
          <p:spPr>
            <a:xfrm>
              <a:off x="3780000" y="4149720"/>
              <a:ext cx="2449440" cy="18169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1160" y="436428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60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07000" y="47073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16440" y="4759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25800" y="595980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356000" y="3357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定相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333684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等边三角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260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不一定相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324000" y="26028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个直角三角形相似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424320" y="981000"/>
            <a:ext cx="1600200" cy="2016360"/>
            <a:chOff x="3424320" y="981000"/>
            <a:chExt cx="1600200" cy="2016360"/>
          </a:xfrm>
        </p:grpSpPr>
        <p:sp>
          <p:nvSpPr>
            <p:cNvPr id="227" name=""/>
            <p:cNvSpPr/>
            <p:nvPr/>
          </p:nvSpPr>
          <p:spPr>
            <a:xfrm>
              <a:off x="3424320" y="981000"/>
              <a:ext cx="1600200" cy="2016360"/>
            </a:xfrm>
            <a:prstGeom prst="rtTriangle">
              <a:avLst/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4200" y="154116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30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438200" y="1052640"/>
            <a:ext cx="624240" cy="1676160"/>
            <a:chOff x="1438200" y="1052640"/>
            <a:chExt cx="624240" cy="1676160"/>
          </a:xfrm>
        </p:grpSpPr>
        <p:sp>
          <p:nvSpPr>
            <p:cNvPr id="230" name=""/>
            <p:cNvSpPr/>
            <p:nvPr/>
          </p:nvSpPr>
          <p:spPr>
            <a:xfrm>
              <a:off x="1476720" y="1052640"/>
              <a:ext cx="533160" cy="1676160"/>
            </a:xfrm>
            <a:prstGeom prst="rtTriangle">
              <a:avLst/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38200" y="126828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20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994200" y="4941720"/>
            <a:ext cx="1455480" cy="1450080"/>
            <a:chOff x="3994200" y="4941720"/>
            <a:chExt cx="1455480" cy="1450080"/>
          </a:xfrm>
        </p:grpSpPr>
        <p:sp>
          <p:nvSpPr>
            <p:cNvPr id="233" name=""/>
            <p:cNvSpPr/>
            <p:nvPr/>
          </p:nvSpPr>
          <p:spPr>
            <a:xfrm>
              <a:off x="4398840" y="4941720"/>
              <a:ext cx="990360" cy="990360"/>
            </a:xfrm>
            <a:prstGeom prst="rtTriangle">
              <a:avLst/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93440" y="5094000"/>
              <a:ext cx="49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45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98360" y="5627520"/>
              <a:ext cx="49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45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873320" y="5094000"/>
                  <a:ext cx="57636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3994200" y="52462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80000" y="59320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78960" y="4005360"/>
            <a:ext cx="2686680" cy="2533320"/>
            <a:chOff x="678960" y="4005360"/>
            <a:chExt cx="2686680" cy="2533320"/>
          </a:xfrm>
        </p:grpSpPr>
        <p:sp>
          <p:nvSpPr>
            <p:cNvPr id="240" name=""/>
            <p:cNvSpPr/>
            <p:nvPr/>
          </p:nvSpPr>
          <p:spPr>
            <a:xfrm>
              <a:off x="1231920" y="4005360"/>
              <a:ext cx="2133720" cy="2057040"/>
            </a:xfrm>
            <a:prstGeom prst="rtTriangle">
              <a:avLst/>
            </a:prstGeom>
            <a:solidFill>
              <a:srgbClr val="bbe0e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76800" y="560520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45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3320" y="430488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45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58400" y="601812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8960" y="492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395800" y="4593960"/>
                  <a:ext cx="609480" cy="43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/>
          <p:cNvSpPr/>
          <p:nvPr/>
        </p:nvSpPr>
        <p:spPr>
          <a:xfrm>
            <a:off x="1392480" y="33368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等腰直角三角形相似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333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不一定相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80000" y="3429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定相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39640" y="69228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已知：如图，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C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,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或它们的延长线）相交于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,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：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EF∽△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互助探究二：相似三角形判定的预备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916960" y="2663280"/>
            <a:ext cx="2656440" cy="2305080"/>
            <a:chOff x="5916960" y="2663280"/>
            <a:chExt cx="2656440" cy="2305080"/>
          </a:xfrm>
        </p:grpSpPr>
        <p:grpSp>
          <p:nvGrpSpPr>
            <p:cNvPr id="252" name=""/>
            <p:cNvGrpSpPr/>
            <p:nvPr/>
          </p:nvGrpSpPr>
          <p:grpSpPr>
            <a:xfrm>
              <a:off x="6280200" y="2939760"/>
              <a:ext cx="1896480" cy="1669320"/>
              <a:chOff x="6280200" y="2939760"/>
              <a:chExt cx="1896480" cy="1669320"/>
            </a:xfrm>
          </p:grpSpPr>
          <p:sp>
            <p:nvSpPr>
              <p:cNvPr id="253" name=""/>
              <p:cNvSpPr/>
              <p:nvPr/>
            </p:nvSpPr>
            <p:spPr>
              <a:xfrm flipH="1" flipV="1">
                <a:off x="6280200" y="2956680"/>
                <a:ext cx="1112760" cy="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06120" y="2968560"/>
                <a:ext cx="1848240" cy="161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349680" y="2939760"/>
                <a:ext cx="1063440" cy="166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6358320" y="4591440"/>
                <a:ext cx="1818360" cy="14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916960" y="2663280"/>
              <a:ext cx="2656440" cy="2305080"/>
              <a:chOff x="5916960" y="2663280"/>
              <a:chExt cx="2656440" cy="2305080"/>
            </a:xfrm>
          </p:grpSpPr>
          <p:sp>
            <p:nvSpPr>
              <p:cNvPr id="258" name=""/>
              <p:cNvSpPr/>
              <p:nvPr/>
            </p:nvSpPr>
            <p:spPr>
              <a:xfrm rot="189600">
                <a:off x="7004880" y="3308400"/>
                <a:ext cx="47304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87520" y="4379760"/>
                <a:ext cx="4651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306600">
                <a:off x="5941440" y="2680920"/>
                <a:ext cx="41796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F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1360000">
                <a:off x="8102520" y="4379760"/>
                <a:ext cx="45144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306600">
                <a:off x="7372080" y="2680560"/>
                <a:ext cx="42120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94520" y="2534400"/>
            <a:ext cx="2104200" cy="2806920"/>
            <a:chOff x="794520" y="2534400"/>
            <a:chExt cx="2104200" cy="2806920"/>
          </a:xfrm>
        </p:grpSpPr>
        <p:grpSp>
          <p:nvGrpSpPr>
            <p:cNvPr id="264" name=""/>
            <p:cNvGrpSpPr/>
            <p:nvPr/>
          </p:nvGrpSpPr>
          <p:grpSpPr>
            <a:xfrm>
              <a:off x="794520" y="2534400"/>
              <a:ext cx="2104200" cy="2806920"/>
              <a:chOff x="794520" y="2534400"/>
              <a:chExt cx="2104200" cy="2806920"/>
            </a:xfrm>
          </p:grpSpPr>
          <p:sp>
            <p:nvSpPr>
              <p:cNvPr id="265" name=""/>
              <p:cNvSpPr/>
              <p:nvPr/>
            </p:nvSpPr>
            <p:spPr>
              <a:xfrm rot="21484800">
                <a:off x="1159200" y="3054240"/>
                <a:ext cx="1358640" cy="1769400"/>
              </a:xfrm>
              <a:prstGeom prst="triangle">
                <a:avLst>
                  <a:gd name="adj" fmla="val 11755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226160" y="4086360"/>
                <a:ext cx="791280" cy="3132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1091200">
                <a:off x="1103760" y="256500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1000" y="364680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1466800">
                <a:off x="937080" y="3749400"/>
                <a:ext cx="426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4520" y="4759920"/>
                <a:ext cx="45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1037200">
                <a:off x="2414160" y="4600800"/>
                <a:ext cx="43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V="1">
              <a:off x="1174320" y="4786920"/>
              <a:ext cx="1403280" cy="5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409200" y="2318400"/>
            <a:ext cx="2595960" cy="3615840"/>
            <a:chOff x="3409200" y="2318400"/>
            <a:chExt cx="2595960" cy="3615840"/>
          </a:xfrm>
        </p:grpSpPr>
        <p:grpSp>
          <p:nvGrpSpPr>
            <p:cNvPr id="274" name=""/>
            <p:cNvGrpSpPr/>
            <p:nvPr/>
          </p:nvGrpSpPr>
          <p:grpSpPr>
            <a:xfrm>
              <a:off x="3409200" y="2318400"/>
              <a:ext cx="2595960" cy="3615840"/>
              <a:chOff x="3409200" y="2318400"/>
              <a:chExt cx="2595960" cy="3615840"/>
            </a:xfrm>
          </p:grpSpPr>
          <p:sp>
            <p:nvSpPr>
              <p:cNvPr id="275" name=""/>
              <p:cNvSpPr/>
              <p:nvPr/>
            </p:nvSpPr>
            <p:spPr>
              <a:xfrm rot="21484800">
                <a:off x="3863880" y="3008520"/>
                <a:ext cx="1817280" cy="2431440"/>
              </a:xfrm>
              <a:prstGeom prst="triangle">
                <a:avLst>
                  <a:gd name="adj" fmla="val 11755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3952800" y="4425840"/>
                <a:ext cx="1059480" cy="4572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1091200">
                <a:off x="3786840" y="234900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36680" y="3823200"/>
                <a:ext cx="43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1466800">
                <a:off x="3534480" y="3963600"/>
                <a:ext cx="45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09200" y="535284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037200">
                <a:off x="5555880" y="514980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884760" y="5390640"/>
              <a:ext cx="1877040" cy="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95280" y="765000"/>
            <a:ext cx="799308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平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于三角形的一边的直线和其他两边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或它们的延长线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相交，所截得的三角形与原三角形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相似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03280" y="5013360"/>
            <a:ext cx="4896000" cy="1477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EF∽△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68360" y="981000"/>
            <a:ext cx="792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,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别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,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中点。求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△ABC∽ △AE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333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跟踪训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71240" y="19890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31200" y="44895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229200">
            <a:off x="7214040" y="44895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151600" y="2490840"/>
            <a:ext cx="2463840" cy="2162160"/>
            <a:chOff x="5151600" y="2490840"/>
            <a:chExt cx="2463840" cy="2162160"/>
          </a:xfrm>
        </p:grpSpPr>
        <p:sp>
          <p:nvSpPr>
            <p:cNvPr id="291" name=""/>
            <p:cNvSpPr/>
            <p:nvPr/>
          </p:nvSpPr>
          <p:spPr>
            <a:xfrm>
              <a:off x="5151600" y="2490840"/>
              <a:ext cx="2160360" cy="2162160"/>
            </a:xfrm>
            <a:prstGeom prst="triangle">
              <a:avLst>
                <a:gd name="adj" fmla="val 8514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72440" y="3357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1466800">
              <a:off x="7229520" y="34290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40360" y="37162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579480" y="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归纳总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1125360"/>
            <a:ext cx="380880" cy="2233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960 h 2233800"/>
              <a:gd name="textAreaBottom" fmla="*/ 2175840 h 22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4880" y="66492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相似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92360" y="1052640"/>
            <a:ext cx="64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定义：对应角相等，对应边成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表示法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∽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相似比：对应边的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3716280"/>
            <a:ext cx="7993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似三角形的判定方法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：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应角相等，对应边成比例的三角形相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平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三角形的一边的直线和其他两边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它们的延长线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交，所截得的三角形与原三角形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相似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508200" y="6206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布置作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462240" y="1237320"/>
            <a:ext cx="2401560" cy="3115440"/>
            <a:chOff x="462240" y="1237320"/>
            <a:chExt cx="2401560" cy="3115440"/>
          </a:xfrm>
        </p:grpSpPr>
        <p:grpSp>
          <p:nvGrpSpPr>
            <p:cNvPr id="302" name=""/>
            <p:cNvGrpSpPr/>
            <p:nvPr/>
          </p:nvGrpSpPr>
          <p:grpSpPr>
            <a:xfrm>
              <a:off x="462240" y="1237320"/>
              <a:ext cx="2401560" cy="3115440"/>
              <a:chOff x="462240" y="1237320"/>
              <a:chExt cx="2401560" cy="3115440"/>
            </a:xfrm>
          </p:grpSpPr>
          <p:sp>
            <p:nvSpPr>
              <p:cNvPr id="303" name=""/>
              <p:cNvSpPr/>
              <p:nvPr/>
            </p:nvSpPr>
            <p:spPr>
              <a:xfrm rot="21484800">
                <a:off x="793440" y="1712880"/>
                <a:ext cx="1693440" cy="2246400"/>
              </a:xfrm>
              <a:prstGeom prst="triangle">
                <a:avLst>
                  <a:gd name="adj" fmla="val 11755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1091200">
                <a:off x="686160" y="126792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856520" y="25336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1466800">
                <a:off x="543960" y="2663280"/>
                <a:ext cx="44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2240" y="3832200"/>
                <a:ext cx="420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21037200">
                <a:off x="2417400" y="3757680"/>
                <a:ext cx="40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flipH="1">
              <a:off x="875160" y="2990520"/>
              <a:ext cx="987120" cy="41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85128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836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平行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11000" y="2542320"/>
            <a:ext cx="640440" cy="1645200"/>
            <a:chOff x="711000" y="2542320"/>
            <a:chExt cx="640440" cy="1645200"/>
          </a:xfrm>
        </p:grpSpPr>
        <p:sp>
          <p:nvSpPr>
            <p:cNvPr id="313" name=""/>
            <p:cNvSpPr/>
            <p:nvPr/>
          </p:nvSpPr>
          <p:spPr>
            <a:xfrm rot="1587000">
              <a:off x="817920" y="26067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587000">
              <a:off x="817920" y="354168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211760" y="2537640"/>
            <a:ext cx="1350000" cy="1582200"/>
            <a:chOff x="1211760" y="2537640"/>
            <a:chExt cx="1350000" cy="1582200"/>
          </a:xfrm>
        </p:grpSpPr>
        <p:sp>
          <p:nvSpPr>
            <p:cNvPr id="316" name=""/>
            <p:cNvSpPr/>
            <p:nvPr/>
          </p:nvSpPr>
          <p:spPr>
            <a:xfrm rot="19154400">
              <a:off x="1349640" y="26060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9154400">
              <a:off x="1997280" y="346968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059280" y="90792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平行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132000" y="1268280"/>
            <a:ext cx="2376720" cy="3047760"/>
            <a:chOff x="3132000" y="1268280"/>
            <a:chExt cx="2376720" cy="3047760"/>
          </a:xfrm>
        </p:grpSpPr>
        <p:sp>
          <p:nvSpPr>
            <p:cNvPr id="320" name=""/>
            <p:cNvSpPr/>
            <p:nvPr/>
          </p:nvSpPr>
          <p:spPr>
            <a:xfrm>
              <a:off x="4207320" y="2561760"/>
              <a:ext cx="792000" cy="43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3132000" y="1268280"/>
              <a:ext cx="2376720" cy="3047760"/>
              <a:chOff x="3132000" y="1268280"/>
              <a:chExt cx="2376720" cy="30477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3396240" y="1689480"/>
                <a:ext cx="1781280" cy="2290680"/>
                <a:chOff x="3396240" y="1689480"/>
                <a:chExt cx="1781280" cy="2290680"/>
              </a:xfrm>
            </p:grpSpPr>
            <p:sp>
              <p:nvSpPr>
                <p:cNvPr id="323" name=""/>
                <p:cNvSpPr/>
                <p:nvPr/>
              </p:nvSpPr>
              <p:spPr>
                <a:xfrm flipH="1">
                  <a:off x="3396240" y="1689480"/>
                  <a:ext cx="1319760" cy="22744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396240" y="3963960"/>
                  <a:ext cx="1772640" cy="16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716000" y="1689480"/>
                  <a:ext cx="461520" cy="22744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4584240" y="126828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43520" y="2624400"/>
                <a:ext cx="327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24000" y="2279160"/>
                <a:ext cx="32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78240" y="3794400"/>
                <a:ext cx="33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32000" y="3795480"/>
                <a:ext cx="33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"/>
          <p:cNvSpPr/>
          <p:nvPr/>
        </p:nvSpPr>
        <p:spPr>
          <a:xfrm rot="19296600">
            <a:off x="4605120" y="2503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3367200">
            <a:off x="3468600" y="3596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484800">
            <a:off x="4720680" y="3505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5054400">
            <a:off x="4206240" y="2209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62064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比例中项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字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母子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940360" y="1413000"/>
            <a:ext cx="2376720" cy="2908440"/>
            <a:chOff x="5940360" y="1413000"/>
            <a:chExt cx="2376720" cy="2908440"/>
          </a:xfrm>
        </p:grpSpPr>
        <p:grpSp>
          <p:nvGrpSpPr>
            <p:cNvPr id="337" name=""/>
            <p:cNvGrpSpPr/>
            <p:nvPr/>
          </p:nvGrpSpPr>
          <p:grpSpPr>
            <a:xfrm>
              <a:off x="6204600" y="1810800"/>
              <a:ext cx="1781280" cy="2163960"/>
              <a:chOff x="6204600" y="1810800"/>
              <a:chExt cx="1781280" cy="2163960"/>
            </a:xfrm>
          </p:grpSpPr>
          <p:sp>
            <p:nvSpPr>
              <p:cNvPr id="338" name=""/>
              <p:cNvSpPr/>
              <p:nvPr/>
            </p:nvSpPr>
            <p:spPr>
              <a:xfrm flipH="1">
                <a:off x="6204600" y="1810800"/>
                <a:ext cx="1319760" cy="2148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204600" y="3959640"/>
                <a:ext cx="1772640" cy="151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524360" y="1810800"/>
                <a:ext cx="461520" cy="2148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562440" y="3392280"/>
                <a:ext cx="1414800" cy="582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7392600" y="1413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36720" y="3043440"/>
              <a:ext cx="3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86600" y="3800880"/>
              <a:ext cx="3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0360" y="3799440"/>
              <a:ext cx="3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rot="5179200">
            <a:off x="6217920" y="3582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5179200">
            <a:off x="6591960" y="30020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8866400">
            <a:off x="7602120" y="35784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9701000">
            <a:off x="7559280" y="3454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68360" y="4437000"/>
                <a:ext cx="2521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203640" y="4437000"/>
                <a:ext cx="2448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012000" y="4437000"/>
                <a:ext cx="2719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395280" y="5270400"/>
            <a:ext cx="309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DE=∠ABC    ∠AED=∠A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5270400"/>
            <a:ext cx="2519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ED=∠B    ∠ADE=∠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12000" y="5270400"/>
            <a:ext cx="280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ED=∠B    ∠ADE=∠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635280" y="18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55280" y="1052640"/>
            <a:ext cx="3472560" cy="2872080"/>
            <a:chOff x="755280" y="1052640"/>
            <a:chExt cx="3472560" cy="2872080"/>
          </a:xfrm>
        </p:grpSpPr>
        <p:grpSp>
          <p:nvGrpSpPr>
            <p:cNvPr id="358" name=""/>
            <p:cNvGrpSpPr/>
            <p:nvPr/>
          </p:nvGrpSpPr>
          <p:grpSpPr>
            <a:xfrm>
              <a:off x="1118160" y="1431720"/>
              <a:ext cx="2655720" cy="2272320"/>
              <a:chOff x="1118160" y="1431720"/>
              <a:chExt cx="2655720" cy="227232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1159560" y="1498320"/>
                <a:ext cx="2614320" cy="2205720"/>
                <a:chOff x="1159560" y="1498320"/>
                <a:chExt cx="2614320" cy="2205720"/>
              </a:xfrm>
            </p:grpSpPr>
            <p:sp>
              <p:nvSpPr>
                <p:cNvPr id="360" name=""/>
                <p:cNvSpPr/>
                <p:nvPr/>
              </p:nvSpPr>
              <p:spPr>
                <a:xfrm flipH="1">
                  <a:off x="1159560" y="1498320"/>
                  <a:ext cx="672120" cy="110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1159920" y="2141640"/>
                  <a:ext cx="2613960" cy="45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32040" y="1498320"/>
                  <a:ext cx="597240" cy="220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2429280" y="2141640"/>
                  <a:ext cx="1344240" cy="156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>
                <a:off x="1118160" y="1431720"/>
                <a:ext cx="198720" cy="49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49320" y="1431720"/>
                <a:ext cx="198720" cy="49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457720" y="1799280"/>
                <a:ext cx="20052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834280" y="2902680"/>
                <a:ext cx="20052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206720" y="2486880"/>
                <a:ext cx="19908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88840" y="2810520"/>
                <a:ext cx="20016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55280" y="233964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00720" y="1052640"/>
              <a:ext cx="46368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42920" y="187992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72840" y="3351240"/>
              <a:ext cx="46368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76480" y="227664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11280" y="692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行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8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179200">
            <a:off x="1078920" y="21664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5022200">
            <a:off x="3136320" y="2137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635840" y="1483560"/>
            <a:ext cx="1188720" cy="2259000"/>
            <a:chOff x="1635840" y="1483560"/>
            <a:chExt cx="1188720" cy="2259000"/>
          </a:xfrm>
        </p:grpSpPr>
        <p:sp>
          <p:nvSpPr>
            <p:cNvPr id="379" name=""/>
            <p:cNvSpPr/>
            <p:nvPr/>
          </p:nvSpPr>
          <p:spPr>
            <a:xfrm rot="10142400">
              <a:off x="1687320" y="1513800"/>
              <a:ext cx="3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364400">
              <a:off x="2302200" y="31014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84360" y="4005360"/>
                <a:ext cx="2832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5003640" y="765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平行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8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932000" y="1125360"/>
            <a:ext cx="3775680" cy="2805480"/>
            <a:chOff x="4932000" y="1125360"/>
            <a:chExt cx="3775680" cy="2805480"/>
          </a:xfrm>
        </p:grpSpPr>
        <p:grpSp>
          <p:nvGrpSpPr>
            <p:cNvPr id="384" name=""/>
            <p:cNvGrpSpPr/>
            <p:nvPr/>
          </p:nvGrpSpPr>
          <p:grpSpPr>
            <a:xfrm>
              <a:off x="5291280" y="1628640"/>
              <a:ext cx="2952720" cy="1871640"/>
              <a:chOff x="5291280" y="1628640"/>
              <a:chExt cx="2952720" cy="1871640"/>
            </a:xfrm>
          </p:grpSpPr>
          <p:sp>
            <p:nvSpPr>
              <p:cNvPr id="385" name=""/>
              <p:cNvSpPr/>
              <p:nvPr/>
            </p:nvSpPr>
            <p:spPr>
              <a:xfrm flipH="1">
                <a:off x="5291280" y="1628640"/>
                <a:ext cx="27144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5291280" y="2491920"/>
                <a:ext cx="2952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580000" y="1628640"/>
                <a:ext cx="57636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156360" y="2492280"/>
                <a:ext cx="208764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932000" y="1125360"/>
              <a:ext cx="3775680" cy="2805480"/>
              <a:chOff x="4932000" y="1125360"/>
              <a:chExt cx="3775680" cy="2805480"/>
            </a:xfrm>
          </p:grpSpPr>
          <p:sp>
            <p:nvSpPr>
              <p:cNvPr id="390" name=""/>
              <p:cNvSpPr/>
              <p:nvPr/>
            </p:nvSpPr>
            <p:spPr>
              <a:xfrm>
                <a:off x="4932000" y="25653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68120" y="1125360"/>
                <a:ext cx="46368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222760" y="20811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12000" y="3357360"/>
                <a:ext cx="46368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945400" y="25383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076720" y="4005360"/>
                <a:ext cx="30481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611280" y="501336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=∠C    ∠A=∠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OB=∠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127120" y="2362320"/>
            <a:ext cx="1428840" cy="1200600"/>
            <a:chOff x="5127120" y="2362320"/>
            <a:chExt cx="1428840" cy="1200600"/>
          </a:xfrm>
        </p:grpSpPr>
        <p:sp>
          <p:nvSpPr>
            <p:cNvPr id="398" name=""/>
            <p:cNvSpPr/>
            <p:nvPr/>
          </p:nvSpPr>
          <p:spPr>
            <a:xfrm rot="4278000">
              <a:off x="5239800" y="2372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057200">
              <a:off x="6051600" y="29304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10710600">
            <a:off x="5436720" y="1914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4683800">
            <a:off x="7235640" y="2491560"/>
            <a:ext cx="5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43280" y="5229360"/>
            <a:ext cx="42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=∠D    ∠A=∠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OB=∠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24000" y="189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据图中给出的条件，写出各组相似三角形的对应边的比例式及相等对应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74760" y="5283360"/>
            <a:ext cx="17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21484800">
            <a:off x="1316160" y="2235240"/>
            <a:ext cx="1693800" cy="2246400"/>
          </a:xfrm>
          <a:prstGeom prst="triangle">
            <a:avLst>
              <a:gd name="adj" fmla="val 1175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398960" y="3544560"/>
            <a:ext cx="987480" cy="41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21091200">
            <a:off x="1299240" y="16538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53680" y="306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466800">
            <a:off x="1041480" y="319860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95680" y="4481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21037200">
            <a:off x="2914920" y="4292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2000" y="5084640"/>
            <a:ext cx="31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DE∽△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16360" y="4724280"/>
            <a:ext cx="22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56000" y="4869000"/>
                <a:ext cx="35118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4140360" y="2492280"/>
            <a:ext cx="424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DE=∠ABC    ∠AED=∠AC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908000" y="1773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行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212840" y="3089880"/>
            <a:ext cx="640440" cy="1645200"/>
            <a:chOff x="1212840" y="3089880"/>
            <a:chExt cx="640440" cy="1645200"/>
          </a:xfrm>
        </p:grpSpPr>
        <p:sp>
          <p:nvSpPr>
            <p:cNvPr id="418" name=""/>
            <p:cNvSpPr/>
            <p:nvPr/>
          </p:nvSpPr>
          <p:spPr>
            <a:xfrm rot="1587000">
              <a:off x="1319760" y="315432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587000">
              <a:off x="1319760" y="40892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708560" y="3072600"/>
            <a:ext cx="1350000" cy="1582200"/>
            <a:chOff x="1708560" y="3072600"/>
            <a:chExt cx="1350000" cy="1582200"/>
          </a:xfrm>
        </p:grpSpPr>
        <p:sp>
          <p:nvSpPr>
            <p:cNvPr id="421" name=""/>
            <p:cNvSpPr/>
            <p:nvPr/>
          </p:nvSpPr>
          <p:spPr>
            <a:xfrm rot="19154400">
              <a:off x="1846440" y="31410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9154400">
              <a:off x="2494080" y="40046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74760" y="5283360"/>
            <a:ext cx="17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4724280"/>
            <a:ext cx="22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11280" y="5516640"/>
                <a:ext cx="316872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826920" y="184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平行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A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031200">
            <a:off x="5664240" y="1215720"/>
            <a:ext cx="59688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3031200">
            <a:off x="6498720" y="2901600"/>
            <a:ext cx="59688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3031200">
            <a:off x="5845320" y="4106520"/>
            <a:ext cx="59688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3031200">
            <a:off x="4799160" y="2088720"/>
            <a:ext cx="59688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989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平行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8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003640" y="5445000"/>
                <a:ext cx="30862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4816080" y="2620440"/>
            <a:ext cx="3246840" cy="2776320"/>
            <a:chOff x="4816080" y="2620440"/>
            <a:chExt cx="3246840" cy="2776320"/>
          </a:xfrm>
        </p:grpSpPr>
        <p:grpSp>
          <p:nvGrpSpPr>
            <p:cNvPr id="62" name=""/>
            <p:cNvGrpSpPr/>
            <p:nvPr/>
          </p:nvGrpSpPr>
          <p:grpSpPr>
            <a:xfrm>
              <a:off x="5283720" y="2978640"/>
              <a:ext cx="2396880" cy="2109960"/>
              <a:chOff x="5283720" y="2978640"/>
              <a:chExt cx="2396880" cy="2109960"/>
            </a:xfrm>
          </p:grpSpPr>
          <p:sp>
            <p:nvSpPr>
              <p:cNvPr id="63" name=""/>
              <p:cNvSpPr/>
              <p:nvPr/>
            </p:nvSpPr>
            <p:spPr>
              <a:xfrm flipH="1" flipV="1">
                <a:off x="5283720" y="2987640"/>
                <a:ext cx="1407960" cy="11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307480" y="3004560"/>
                <a:ext cx="2351520" cy="206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378040" y="2978640"/>
                <a:ext cx="1333080" cy="210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5379840" y="5082840"/>
                <a:ext cx="2300760" cy="5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816080" y="2620440"/>
              <a:ext cx="3246840" cy="2776320"/>
              <a:chOff x="4816080" y="2620440"/>
              <a:chExt cx="3246840" cy="2776320"/>
            </a:xfrm>
          </p:grpSpPr>
          <p:sp>
            <p:nvSpPr>
              <p:cNvPr id="68" name=""/>
              <p:cNvSpPr/>
              <p:nvPr/>
            </p:nvSpPr>
            <p:spPr>
              <a:xfrm rot="189600">
                <a:off x="6217560" y="3435120"/>
                <a:ext cx="47304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23720" y="4806720"/>
                <a:ext cx="4651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306600">
                <a:off x="4840560" y="2640960"/>
                <a:ext cx="49284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D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21360000">
                <a:off x="7592040" y="4808160"/>
                <a:ext cx="45144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306600">
                <a:off x="6676560" y="2640960"/>
                <a:ext cx="42120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3492360" y="364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DE∥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54880" y="2174040"/>
            <a:ext cx="2496600" cy="3385800"/>
            <a:chOff x="1154880" y="2174040"/>
            <a:chExt cx="2496600" cy="3385800"/>
          </a:xfrm>
        </p:grpSpPr>
        <p:grpSp>
          <p:nvGrpSpPr>
            <p:cNvPr id="75" name=""/>
            <p:cNvGrpSpPr/>
            <p:nvPr/>
          </p:nvGrpSpPr>
          <p:grpSpPr>
            <a:xfrm>
              <a:off x="1154880" y="2174040"/>
              <a:ext cx="2496600" cy="3385800"/>
              <a:chOff x="1154880" y="2174040"/>
              <a:chExt cx="2496600" cy="3385800"/>
            </a:xfrm>
          </p:grpSpPr>
          <p:sp>
            <p:nvSpPr>
              <p:cNvPr id="76" name=""/>
              <p:cNvSpPr/>
              <p:nvPr/>
            </p:nvSpPr>
            <p:spPr>
              <a:xfrm rot="21484800">
                <a:off x="1601640" y="2813040"/>
                <a:ext cx="1693800" cy="2246400"/>
              </a:xfrm>
              <a:prstGeom prst="triangle">
                <a:avLst>
                  <a:gd name="adj" fmla="val 11755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684440" y="4122360"/>
                <a:ext cx="987480" cy="4176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1091200">
                <a:off x="1533600" y="220464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15400" y="356544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1466800">
                <a:off x="1278360" y="3695760"/>
                <a:ext cx="48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4880" y="4978440"/>
                <a:ext cx="45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1037200">
                <a:off x="3166920" y="4790520"/>
                <a:ext cx="43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flipV="1">
              <a:off x="1620720" y="5013000"/>
              <a:ext cx="174924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79280" y="69228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行于三角形的一边，并且和其他两边相交的直线，所截得的三角形与原三角形的对应边成比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识链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71640" y="40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变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11280" y="981000"/>
            <a:ext cx="3024000" cy="3473280"/>
            <a:chOff x="611280" y="981000"/>
            <a:chExt cx="3024000" cy="3473280"/>
          </a:xfrm>
        </p:grpSpPr>
        <p:sp>
          <p:nvSpPr>
            <p:cNvPr id="425" name=""/>
            <p:cNvSpPr/>
            <p:nvPr/>
          </p:nvSpPr>
          <p:spPr>
            <a:xfrm>
              <a:off x="1979640" y="2492280"/>
              <a:ext cx="1008000" cy="50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611280" y="981000"/>
              <a:ext cx="3024000" cy="3473280"/>
              <a:chOff x="611280" y="981000"/>
              <a:chExt cx="3024000" cy="347328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947520" y="1473120"/>
                <a:ext cx="2267280" cy="2676600"/>
                <a:chOff x="947520" y="1473120"/>
                <a:chExt cx="2267280" cy="2676600"/>
              </a:xfrm>
            </p:grpSpPr>
            <p:sp>
              <p:nvSpPr>
                <p:cNvPr id="428" name=""/>
                <p:cNvSpPr/>
                <p:nvPr/>
              </p:nvSpPr>
              <p:spPr>
                <a:xfrm flipH="1">
                  <a:off x="947520" y="1473120"/>
                  <a:ext cx="1679400" cy="26575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947880" y="4130640"/>
                  <a:ext cx="2255760" cy="190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627280" y="1473120"/>
                  <a:ext cx="587520" cy="26575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2459160" y="981000"/>
                <a:ext cx="58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16360" y="2565360"/>
                <a:ext cx="41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19280" y="2162160"/>
                <a:ext cx="42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214800" y="3933720"/>
                <a:ext cx="42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1280" y="3933720"/>
                <a:ext cx="42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538560" y="4797360"/>
            <a:ext cx="31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∽△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6520" y="1773360"/>
                <a:ext cx="34700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4140360" y="3573360"/>
            <a:ext cx="424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ED=∠B    ∠ADE=∠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179200">
            <a:off x="1983960" y="2065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8999600">
            <a:off x="2778120" y="3649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5179200">
            <a:off x="1046880" y="36496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8021600">
            <a:off x="2488320" y="23540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43280" y="549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平行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71640" y="40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再变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11280" y="981000"/>
            <a:ext cx="3024000" cy="3473280"/>
            <a:chOff x="611280" y="981000"/>
            <a:chExt cx="3024000" cy="3473280"/>
          </a:xfrm>
        </p:grpSpPr>
        <p:grpSp>
          <p:nvGrpSpPr>
            <p:cNvPr id="446" name=""/>
            <p:cNvGrpSpPr/>
            <p:nvPr/>
          </p:nvGrpSpPr>
          <p:grpSpPr>
            <a:xfrm>
              <a:off x="947520" y="1473120"/>
              <a:ext cx="2267280" cy="2676600"/>
              <a:chOff x="947520" y="1473120"/>
              <a:chExt cx="2267280" cy="2676600"/>
            </a:xfrm>
          </p:grpSpPr>
          <p:sp>
            <p:nvSpPr>
              <p:cNvPr id="447" name=""/>
              <p:cNvSpPr/>
              <p:nvPr/>
            </p:nvSpPr>
            <p:spPr>
              <a:xfrm flipH="1">
                <a:off x="947520" y="1473120"/>
                <a:ext cx="1679400" cy="26575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47880" y="4130640"/>
                <a:ext cx="2255760" cy="19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27280" y="1473120"/>
                <a:ext cx="587520" cy="26575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3280" y="3429000"/>
                <a:ext cx="1800360" cy="720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2459160" y="981000"/>
              <a:ext cx="58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16000" y="2997360"/>
              <a:ext cx="4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14800" y="3933720"/>
              <a:ext cx="4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1280" y="3933720"/>
              <a:ext cx="4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38200" y="4797360"/>
            <a:ext cx="31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∽△A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54600" y="1773360"/>
                <a:ext cx="35528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4140360" y="3573360"/>
            <a:ext cx="424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DC=∠ACB    ∠ACD=∠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=∠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179200">
            <a:off x="1407240" y="30733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8999600">
            <a:off x="2782800" y="3715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5179200">
            <a:off x="1046880" y="36496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8866400">
            <a:off x="2704680" y="35784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16360" y="62064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例中项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字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子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684360" y="333360"/>
            <a:ext cx="4566600" cy="3227400"/>
            <a:chOff x="684360" y="333360"/>
            <a:chExt cx="4566600" cy="3227400"/>
          </a:xfrm>
        </p:grpSpPr>
        <p:grpSp>
          <p:nvGrpSpPr>
            <p:cNvPr id="464" name=""/>
            <p:cNvGrpSpPr/>
            <p:nvPr/>
          </p:nvGrpSpPr>
          <p:grpSpPr>
            <a:xfrm>
              <a:off x="1216080" y="771120"/>
              <a:ext cx="3591720" cy="2624040"/>
              <a:chOff x="1216080" y="771120"/>
              <a:chExt cx="3591720" cy="262404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1236960" y="848160"/>
                <a:ext cx="3570840" cy="2547000"/>
                <a:chOff x="1236960" y="848160"/>
                <a:chExt cx="3570840" cy="2547000"/>
              </a:xfrm>
            </p:grpSpPr>
            <p:sp>
              <p:nvSpPr>
                <p:cNvPr id="466" name=""/>
                <p:cNvSpPr/>
                <p:nvPr/>
              </p:nvSpPr>
              <p:spPr>
                <a:xfrm flipH="1">
                  <a:off x="1236960" y="848160"/>
                  <a:ext cx="918000" cy="12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1236960" y="1590840"/>
                  <a:ext cx="3570840" cy="53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154960" y="848160"/>
                  <a:ext cx="816120" cy="254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2971080" y="1590840"/>
                  <a:ext cx="1836360" cy="180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1216080" y="771120"/>
                <a:ext cx="19944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214720" y="771120"/>
                <a:ext cx="1998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048480" y="1195560"/>
                <a:ext cx="19980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562920" y="2469240"/>
                <a:ext cx="1998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37040" y="1989360"/>
                <a:ext cx="19980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131920" y="2363040"/>
                <a:ext cx="1998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684360" y="181908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11760" y="333360"/>
              <a:ext cx="46368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66040" y="128844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31560" y="2987280"/>
              <a:ext cx="46368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89400" y="1746360"/>
              <a:ext cx="48492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755280" y="400536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BO∽△D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406760" y="2349360"/>
                <a:ext cx="35528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4356000" y="4005360"/>
            <a:ext cx="42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=∠C    ∠A=∠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OB=∠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243440" y="1553400"/>
            <a:ext cx="3316680" cy="601920"/>
            <a:chOff x="1243440" y="1553400"/>
            <a:chExt cx="3316680" cy="601920"/>
          </a:xfrm>
        </p:grpSpPr>
        <p:sp>
          <p:nvSpPr>
            <p:cNvPr id="485" name=""/>
            <p:cNvSpPr/>
            <p:nvPr/>
          </p:nvSpPr>
          <p:spPr>
            <a:xfrm rot="5179200">
              <a:off x="1334160" y="163332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5022200">
              <a:off x="4001400" y="15609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860840" y="874800"/>
            <a:ext cx="1443240" cy="2547720"/>
            <a:chOff x="1860840" y="874800"/>
            <a:chExt cx="1443240" cy="2547720"/>
          </a:xfrm>
        </p:grpSpPr>
        <p:sp>
          <p:nvSpPr>
            <p:cNvPr id="488" name=""/>
            <p:cNvSpPr/>
            <p:nvPr/>
          </p:nvSpPr>
          <p:spPr>
            <a:xfrm rot="10142400">
              <a:off x="1911960" y="91008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364400">
              <a:off x="2781720" y="27813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2627280" y="549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行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187280" y="7650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85920" y="7650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19320" y="119052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308240" y="1984320"/>
            <a:ext cx="199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03480" y="23572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476000" y="333360"/>
            <a:ext cx="3775680" cy="2805480"/>
            <a:chOff x="1476000" y="333360"/>
            <a:chExt cx="3775680" cy="2805480"/>
          </a:xfrm>
        </p:grpSpPr>
        <p:grpSp>
          <p:nvGrpSpPr>
            <p:cNvPr id="497" name=""/>
            <p:cNvGrpSpPr/>
            <p:nvPr/>
          </p:nvGrpSpPr>
          <p:grpSpPr>
            <a:xfrm>
              <a:off x="1835280" y="836640"/>
              <a:ext cx="2952720" cy="1871640"/>
              <a:chOff x="1835280" y="836640"/>
              <a:chExt cx="2952720" cy="187164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1835280" y="836640"/>
                <a:ext cx="27144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1835280" y="1699920"/>
                <a:ext cx="2952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124000" y="836640"/>
                <a:ext cx="57636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2700360" y="1700280"/>
                <a:ext cx="208764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476000" y="333360"/>
              <a:ext cx="3775680" cy="2805480"/>
              <a:chOff x="1476000" y="333360"/>
              <a:chExt cx="3775680" cy="2805480"/>
            </a:xfrm>
          </p:grpSpPr>
          <p:sp>
            <p:nvSpPr>
              <p:cNvPr id="503" name=""/>
              <p:cNvSpPr/>
              <p:nvPr/>
            </p:nvSpPr>
            <p:spPr>
              <a:xfrm>
                <a:off x="1476000" y="17733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112120" y="333360"/>
                <a:ext cx="46368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66760" y="12891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56000" y="2565360"/>
                <a:ext cx="46368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89400" y="1746360"/>
                <a:ext cx="484920" cy="5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6560"/>
                    <a:tab algn="l" pos="2013120"/>
                    <a:tab algn="l" pos="3019320"/>
                    <a:tab algn="l" pos="4025880"/>
                    <a:tab algn="l" pos="5032440"/>
                    <a:tab algn="l" pos="6039000"/>
                    <a:tab algn="l" pos="7045200"/>
                    <a:tab algn="l" pos="8051760"/>
                    <a:tab algn="l" pos="9058320"/>
                    <a:tab algn="l" pos="1006488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755280" y="400536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BO∽△D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406760" y="2349360"/>
                <a:ext cx="35528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4356000" y="4005360"/>
            <a:ext cx="42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=∠D    ∠A=∠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OB=∠C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641240" y="1636200"/>
            <a:ext cx="1428840" cy="1201320"/>
            <a:chOff x="1641240" y="1636200"/>
            <a:chExt cx="1428840" cy="1201320"/>
          </a:xfrm>
        </p:grpSpPr>
        <p:sp>
          <p:nvSpPr>
            <p:cNvPr id="512" name=""/>
            <p:cNvSpPr/>
            <p:nvPr/>
          </p:nvSpPr>
          <p:spPr>
            <a:xfrm rot="4278000">
              <a:off x="1753920" y="1645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057200">
              <a:off x="2565720" y="22050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935000" y="1018080"/>
            <a:ext cx="2597400" cy="1236600"/>
            <a:chOff x="1935000" y="1018080"/>
            <a:chExt cx="2597400" cy="1236600"/>
          </a:xfrm>
        </p:grpSpPr>
        <p:sp>
          <p:nvSpPr>
            <p:cNvPr id="515" name=""/>
            <p:cNvSpPr/>
            <p:nvPr/>
          </p:nvSpPr>
          <p:spPr>
            <a:xfrm rot="10142400">
              <a:off x="1980720" y="1050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2398400">
              <a:off x="3922200" y="1644840"/>
              <a:ext cx="5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627280" y="549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平行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字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114800" y="3181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84720" y="260280"/>
            <a:ext cx="4578120" cy="3306600"/>
            <a:chOff x="4284720" y="260280"/>
            <a:chExt cx="4578120" cy="3306600"/>
          </a:xfrm>
        </p:grpSpPr>
        <p:sp>
          <p:nvSpPr>
            <p:cNvPr id="88" name=""/>
            <p:cNvSpPr/>
            <p:nvPr/>
          </p:nvSpPr>
          <p:spPr>
            <a:xfrm>
              <a:off x="4718160" y="765000"/>
              <a:ext cx="3456000" cy="2303640"/>
            </a:xfrm>
            <a:prstGeom prst="triangle">
              <a:avLst>
                <a:gd name="adj" fmla="val 87454"/>
              </a:avLst>
            </a:prstGeom>
            <a:solidFill>
              <a:srgbClr val="ffff0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284720" y="2924280"/>
              <a:ext cx="110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58160" y="2852640"/>
              <a:ext cx="90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720" y="260280"/>
              <a:ext cx="53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4005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条边对应相等，三个角对应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9560" y="307800"/>
            <a:ext cx="3816720" cy="3263760"/>
            <a:chOff x="439560" y="307800"/>
            <a:chExt cx="3816720" cy="3263760"/>
          </a:xfrm>
        </p:grpSpPr>
        <p:sp>
          <p:nvSpPr>
            <p:cNvPr id="94" name=""/>
            <p:cNvSpPr/>
            <p:nvPr/>
          </p:nvSpPr>
          <p:spPr>
            <a:xfrm>
              <a:off x="559440" y="720720"/>
              <a:ext cx="3480120" cy="2361960"/>
            </a:xfrm>
            <a:prstGeom prst="triangle">
              <a:avLst>
                <a:gd name="adj" fmla="val 87454"/>
              </a:avLst>
            </a:prstGeom>
            <a:solidFill>
              <a:srgbClr val="0000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16200" y="30780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9560" y="305100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49840" y="305100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24000" y="333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等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111E-006 L 0.45156 0.00509 E">
                                      <p:cBhvr>
                                        <p:cTn id="2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77520" y="1268280"/>
            <a:ext cx="3873240" cy="3324600"/>
            <a:chOff x="677520" y="1268280"/>
            <a:chExt cx="3873240" cy="3324600"/>
          </a:xfrm>
        </p:grpSpPr>
        <p:sp>
          <p:nvSpPr>
            <p:cNvPr id="100" name=""/>
            <p:cNvSpPr/>
            <p:nvPr/>
          </p:nvSpPr>
          <p:spPr>
            <a:xfrm>
              <a:off x="776160" y="1700280"/>
              <a:ext cx="3505320" cy="2361960"/>
            </a:xfrm>
            <a:prstGeom prst="triangle">
              <a:avLst>
                <a:gd name="adj" fmla="val 87454"/>
              </a:avLst>
            </a:prstGeom>
            <a:solidFill>
              <a:srgbClr val="66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94480" y="12682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7520" y="401148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10840" y="401148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716360" y="1989000"/>
            <a:ext cx="3311640" cy="2319480"/>
            <a:chOff x="4716360" y="1989000"/>
            <a:chExt cx="3311640" cy="2319480"/>
          </a:xfrm>
        </p:grpSpPr>
        <p:sp>
          <p:nvSpPr>
            <p:cNvPr id="105" name=""/>
            <p:cNvSpPr/>
            <p:nvPr/>
          </p:nvSpPr>
          <p:spPr>
            <a:xfrm>
              <a:off x="5227560" y="2528640"/>
              <a:ext cx="2098800" cy="1376280"/>
            </a:xfrm>
            <a:prstGeom prst="triangle">
              <a:avLst>
                <a:gd name="adj" fmla="val 87454"/>
              </a:avLst>
            </a:prstGeom>
            <a:solidFill>
              <a:srgbClr val="ffcc00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0280" y="1989000"/>
              <a:ext cx="101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16360" y="369864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26360" y="3727080"/>
              <a:ext cx="7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547640" y="472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对应角相等</a:t>
            </a:r>
            <a:r>
              <a:rPr b="1" lang="zh-CN" sz="3600" spc="-1" strike="noStrike">
                <a:solidFill>
                  <a:srgbClr val="6600ff"/>
                </a:solidFill>
                <a:latin typeface="Comic Sans MS"/>
              </a:rPr>
              <a:t>、对应边成比例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三角形叫相似三角形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互助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47360" y="692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互助探究一：相似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88000" y="1413000"/>
            <a:ext cx="3671280" cy="581400"/>
            <a:chOff x="4788000" y="1413000"/>
            <a:chExt cx="3671280" cy="581400"/>
          </a:xfrm>
        </p:grpSpPr>
        <p:sp>
          <p:nvSpPr>
            <p:cNvPr id="113" name=""/>
            <p:cNvSpPr/>
            <p:nvPr/>
          </p:nvSpPr>
          <p:spPr>
            <a:xfrm>
              <a:off x="4788000" y="1413000"/>
              <a:ext cx="3421080" cy="581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Book Antiqua"/>
                  <a:ea typeface="华文细黑"/>
                </a:rPr>
                <a:t>ABC </a:t>
              </a:r>
              <a:r>
                <a:rPr b="1" lang="en-US" sz="3200" spc="-1" strike="noStrike">
                  <a:solidFill>
                    <a:srgbClr val="ff0000"/>
                  </a:solidFill>
                  <a:latin typeface="Book Antiqua"/>
                  <a:ea typeface="华文细黑"/>
                </a:rPr>
                <a:t>∽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  <a:ea typeface="华文细黑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040880" y="1413000"/>
                  <a:ext cx="1418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50920" y="404640"/>
            <a:ext cx="3352680" cy="520560"/>
            <a:chOff x="250920" y="404640"/>
            <a:chExt cx="3352680" cy="520560"/>
          </a:xfrm>
        </p:grpSpPr>
        <p:sp>
          <p:nvSpPr>
            <p:cNvPr id="116" name=""/>
            <p:cNvSpPr/>
            <p:nvPr/>
          </p:nvSpPr>
          <p:spPr>
            <a:xfrm>
              <a:off x="250920" y="404640"/>
              <a:ext cx="3124080" cy="5205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  <a:ea typeface="华文细黑"/>
                </a:rPr>
                <a:t>ABC </a:t>
              </a:r>
              <a:r>
                <a:rPr b="1" lang="en-US" sz="2800" spc="-1" strike="noStrike">
                  <a:solidFill>
                    <a:srgbClr val="ff0000"/>
                  </a:solidFill>
                  <a:latin typeface="Book Antiqua"/>
                  <a:ea typeface="华文细黑"/>
                </a:rPr>
                <a:t>∽</a:t>
              </a:r>
              <a:r>
                <a:rPr b="1" lang="en-US" sz="2800" spc="-1" strike="noStrike">
                  <a:solidFill>
                    <a:srgbClr val="000000"/>
                  </a:solidFill>
                  <a:latin typeface="Book Antiqua"/>
                  <a:ea typeface="华文细黑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308320" y="404640"/>
                  <a:ext cx="129528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748800" y="476280"/>
            <a:ext cx="3873240" cy="3324240"/>
            <a:chOff x="748800" y="476280"/>
            <a:chExt cx="3873240" cy="3324240"/>
          </a:xfrm>
        </p:grpSpPr>
        <p:sp>
          <p:nvSpPr>
            <p:cNvPr id="119" name=""/>
            <p:cNvSpPr/>
            <p:nvPr/>
          </p:nvSpPr>
          <p:spPr>
            <a:xfrm>
              <a:off x="847440" y="907920"/>
              <a:ext cx="3505320" cy="2361600"/>
            </a:xfrm>
            <a:prstGeom prst="triangle">
              <a:avLst>
                <a:gd name="adj" fmla="val 87454"/>
              </a:avLst>
            </a:prstGeom>
            <a:solidFill>
              <a:srgbClr val="0000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5760" y="47628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8800" y="321912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82120" y="321912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716360" y="1292400"/>
            <a:ext cx="3285000" cy="2300400"/>
            <a:chOff x="4716360" y="1292400"/>
            <a:chExt cx="3285000" cy="2300400"/>
          </a:xfrm>
        </p:grpSpPr>
        <p:sp>
          <p:nvSpPr>
            <p:cNvPr id="124" name=""/>
            <p:cNvSpPr/>
            <p:nvPr/>
          </p:nvSpPr>
          <p:spPr>
            <a:xfrm>
              <a:off x="5186520" y="1825560"/>
              <a:ext cx="2288880" cy="1363680"/>
            </a:xfrm>
            <a:prstGeom prst="triangle">
              <a:avLst>
                <a:gd name="adj" fmla="val 87454"/>
              </a:avLst>
            </a:prstGeom>
            <a:solidFill>
              <a:srgbClr val="ffcc00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7600" y="1292400"/>
              <a:ext cx="52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16360" y="2900520"/>
              <a:ext cx="59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98800" y="3011400"/>
              <a:ext cx="5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68360" y="3860640"/>
            <a:ext cx="89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应角相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∠ A  =∠ 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 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   =∠ B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   =∠ C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应边相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843280" y="5157720"/>
                <a:ext cx="51134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476280"/>
            <a:ext cx="3505320" cy="2362320"/>
          </a:xfrm>
          <a:prstGeom prst="triangle">
            <a:avLst>
              <a:gd name="adj" fmla="val 87454"/>
            </a:avLst>
          </a:prstGeom>
          <a:solidFill>
            <a:srgbClr val="00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1360" y="228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360" y="29368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16640" y="2936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042520" y="1031760"/>
            <a:ext cx="2793600" cy="2003400"/>
            <a:chOff x="5042520" y="1031760"/>
            <a:chExt cx="2793600" cy="2003400"/>
          </a:xfrm>
        </p:grpSpPr>
        <p:sp>
          <p:nvSpPr>
            <p:cNvPr id="135" name=""/>
            <p:cNvSpPr/>
            <p:nvPr/>
          </p:nvSpPr>
          <p:spPr>
            <a:xfrm>
              <a:off x="5334120" y="1371600"/>
              <a:ext cx="2133360" cy="1295280"/>
            </a:xfrm>
            <a:prstGeom prst="triangle">
              <a:avLst>
                <a:gd name="adj" fmla="val 87454"/>
              </a:avLst>
            </a:prstGeom>
            <a:solidFill>
              <a:srgbClr val="ff0000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73000" y="1031760"/>
              <a:ext cx="3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42520" y="266688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80080" y="2666880"/>
              <a:ext cx="35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026880" y="3357720"/>
            <a:ext cx="31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似三角形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应边的比 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叫做它们相似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4000" y="3933720"/>
                <a:ext cx="3382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708360" y="4076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 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相似比是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k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6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似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941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相似比是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364000" y="4797360"/>
                <a:ext cx="3207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5" name=""/>
          <p:cNvGrpSpPr/>
          <p:nvPr/>
        </p:nvGrpSpPr>
        <p:grpSpPr>
          <a:xfrm>
            <a:off x="6227640" y="4869000"/>
            <a:ext cx="2676600" cy="699840"/>
            <a:chOff x="6227640" y="4869000"/>
            <a:chExt cx="2676600" cy="69984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6227640" y="4869000"/>
                  <a:ext cx="239256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A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8634240" y="4869000"/>
                  <a:ext cx="27000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/>
          <p:cNvSpPr/>
          <p:nvPr/>
        </p:nvSpPr>
        <p:spPr>
          <a:xfrm>
            <a:off x="3851280" y="476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注意：顺序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94200" y="404640"/>
            <a:ext cx="3728160" cy="3111480"/>
            <a:chOff x="394200" y="404640"/>
            <a:chExt cx="3728160" cy="3111480"/>
          </a:xfrm>
        </p:grpSpPr>
        <p:sp>
          <p:nvSpPr>
            <p:cNvPr id="150" name=""/>
            <p:cNvSpPr/>
            <p:nvPr/>
          </p:nvSpPr>
          <p:spPr>
            <a:xfrm>
              <a:off x="486360" y="668160"/>
              <a:ext cx="3480120" cy="2361960"/>
            </a:xfrm>
            <a:prstGeom prst="triangle">
              <a:avLst>
                <a:gd name="adj" fmla="val 87454"/>
              </a:avLst>
            </a:prstGeom>
            <a:solidFill>
              <a:srgbClr val="0000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85600" y="4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4200" y="31478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96920" y="31478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419720" y="609480"/>
            <a:ext cx="3581280" cy="2438640"/>
          </a:xfrm>
          <a:prstGeom prst="triangle">
            <a:avLst>
              <a:gd name="adj" fmla="val 87454"/>
            </a:avLst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181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114800" y="304812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960" y="304812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64800" y="3049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4869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注：两个全等三角形一定相似，全等是相似的一种特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407664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全等三角形的相似比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76500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若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BC∽△A′B′C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 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=60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=45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′=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2421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5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476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跟踪训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5407560" y="1773360"/>
            <a:ext cx="2806200" cy="3033720"/>
            <a:chOff x="5407560" y="1773360"/>
            <a:chExt cx="2806200" cy="3033720"/>
          </a:xfrm>
        </p:grpSpPr>
        <p:grpSp>
          <p:nvGrpSpPr>
            <p:cNvPr id="165" name=""/>
            <p:cNvGrpSpPr/>
            <p:nvPr/>
          </p:nvGrpSpPr>
          <p:grpSpPr>
            <a:xfrm>
              <a:off x="5407560" y="1773360"/>
              <a:ext cx="2806200" cy="3033720"/>
              <a:chOff x="5407560" y="1773360"/>
              <a:chExt cx="2806200" cy="3033720"/>
            </a:xfrm>
          </p:grpSpPr>
          <p:sp>
            <p:nvSpPr>
              <p:cNvPr id="166" name=""/>
              <p:cNvSpPr/>
              <p:nvPr/>
            </p:nvSpPr>
            <p:spPr>
              <a:xfrm>
                <a:off x="5727600" y="2274840"/>
                <a:ext cx="2160720" cy="2162160"/>
              </a:xfrm>
              <a:prstGeom prst="triangle">
                <a:avLst>
                  <a:gd name="adj" fmla="val 8514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47240" y="1773360"/>
                <a:ext cx="42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004440" y="33577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1466800">
                <a:off x="7805520" y="335772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07560" y="4273560"/>
                <a:ext cx="420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29200">
                <a:off x="7790400" y="4273560"/>
                <a:ext cx="40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flipH="1" flipV="1">
              <a:off x="6290280" y="3714480"/>
              <a:ext cx="1484640" cy="11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22920" y="4437000"/>
              <a:ext cx="21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9840" y="404640"/>
            <a:ext cx="90741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如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△AEF∽ △ABC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出这两个三角形中，相等的对应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对应边的比例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4:14:03Z</dcterms:created>
  <dc:creator>薛二红</dc:creator>
  <dc:description/>
  <dc:language>en-US</dc:language>
  <cp:lastModifiedBy>USER</cp:lastModifiedBy>
  <dcterms:modified xsi:type="dcterms:W3CDTF">2014-10-09T23:56:19Z</dcterms:modified>
  <cp:revision>350</cp:revision>
  <dc:subject/>
  <dc:title>幻灯片 1</dc:title>
</cp:coreProperties>
</file>